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A7E-6B3B-426B-AFDD-CFF94214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679-4778-4CA9-AD02-9607B01C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9BB-A30C-4D05-B756-1097B93C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EDA-902C-4A10-8AA6-7E61E85B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F30-8FCE-4221-BC3E-2833E6C7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4C9-224A-4AA8-84EC-C6566D8F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69A-6197-40EF-B43F-8F611120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113-644A-407F-9982-DC6B2E0D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AF0-5954-4A21-B509-19CCD007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9E6-A493-4BD8-A727-5535C4B3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463-656E-40F3-8473-82B2AB82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C9D-F2E3-4757-897A-A9BE59AA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7FD7-623B-42ED-910B-4D9E79132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 and Plan for Organizing ESA Research Across Tanzania, Malawi and Zamb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Zambia: SIML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MYT and IITA (maize-legume syst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n Zam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TF – Zamb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ICRIS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ndnut + 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Tanzani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Morogoro (rice); Manyara and Dodoma (maize);  Mbeya (horticulture), et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aize-legume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awi, Tanzania, Mozambique, Kenya,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llover – Uganda, Rwanda, Zambia, Botsw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aize, legumes, livest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ct orientation  - shared vision to change livelihoods through integrated interven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untry participation and ownership – not contract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agement of all relevant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a lead national partner (research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ignment with national and regional investment and food security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ster the systems perspectiv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acity strengthening to rebuild national capac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ing participation and recognition of farmers’ contrib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der equity - inclusion of women (and m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coordinator (lead cen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coordinators (assigned by national lead partn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objective or theme leaders (key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focal points for each theme/obj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coordination by regional/zonal research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report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, national, objective focal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s to make thi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 centers (germplasm and technolog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nsion agenc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vate sector (feed, seed, fert, vet, finance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GOs – out-sca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ulatory agencies, bureau of standards, et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k with other projects (scaling up/out, spillov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ledge management system for the project (website, data, newsletter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novation platforms to support learning and farmer-led innov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farming system in each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ss-country vi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st and partn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ion plots/model fa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icipatory on-farm tr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ilitating and spillo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 plannin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ing of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coordinator plus 4-5 reps from country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eld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rom SRO for spillovers (CCARDESA, ASARECA, ECA, COMES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level (in-kind awards for team w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level awards to recognize team work and excel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of farmer contributions and lead innov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6:19:04Z</dcterms:created>
  <dc:creator>bshiferaw</dc:creator>
  <dc:description/>
  <dc:language>en-US</dc:language>
  <cp:lastModifiedBy>eleborgne</cp:lastModifiedBy>
  <dcterms:modified xsi:type="dcterms:W3CDTF">2012-02-09T09:06:56Z</dcterms:modified>
  <cp:revision>16</cp:revision>
  <dc:subject/>
  <dc:title>Plan and Principles for Organizing ESA Research Across Tanzania, Malawi and Zambia</dc:title>
</cp:coreProperties>
</file>